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45F-610D-41C0-A681-A8AE18977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0BF-DBAA-474E-A7FE-931DC83AC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6A3-BC74-4786-BC46-B644F032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080-F64A-4E74-8AD5-E03A16E1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492-4060-49FC-B352-07E35728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B35-043B-49EA-BE1A-147D44C1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695-7FA9-47CE-993A-7CCD96B5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976-8377-44BA-B2F2-8ADCEAFF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BCF-B621-479E-97E6-87116636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3CC-B4A4-4C38-9A86-FAB875E5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FC8-D020-4BD7-918D-FA038AB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514-A558-4D16-90C1-168D4A5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8E2-D971-4151-BB38-7BDA58B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CCE-28DE-4094-9851-998EFF9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3535-68F1-4812-8BE2-C8A8FC5E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002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 Estoy el aburriia Viva la vida llo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 y usted trabajar. Estan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Tienes quier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 Yo son cansada. Mis amigas nuestras el loca!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¿Es familia bie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Photo on 12-6-12 at 9.30 AM.jpg"/>
          <p:cNvPicPr/>
          <p:nvPr/>
        </p:nvPicPr>
        <p:blipFill>
          <a:blip r:embed="rId6"/>
          <a:stretch/>
        </p:blipFill>
        <p:spPr>
          <a:xfrm>
            <a:off x="0" y="4572000"/>
            <a:ext cx="63972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763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ys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4" descr="Photo on 12-6-12 at 9.30 AM.jpg"/>
          <p:cNvPicPr/>
          <p:nvPr/>
        </p:nvPicPr>
        <p:blipFill>
          <a:blip r:embed="rId7"/>
          <a:stretch/>
        </p:blipFill>
        <p:spPr>
          <a:xfrm>
            <a:off x="1962000" y="4419720"/>
            <a:ext cx="74484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Photo on 12-6-12 at 9.30 AM.jpg"/>
          <p:cNvPicPr/>
          <p:nvPr/>
        </p:nvPicPr>
        <p:blipFill>
          <a:blip r:embed="rId8"/>
          <a:stretch/>
        </p:blipFill>
        <p:spPr>
          <a:xfrm>
            <a:off x="2041560" y="5711760"/>
            <a:ext cx="665280" cy="97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6-12 at 9.35 AM.jpg"/>
          <p:cNvPicPr/>
          <p:nvPr/>
        </p:nvPicPr>
        <p:blipFill>
          <a:blip r:embed="rId9"/>
          <a:stretch/>
        </p:blipFill>
        <p:spPr>
          <a:xfrm>
            <a:off x="2041560" y="251136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Photo on 12-6-12 at 9.35 AM.jpg"/>
          <p:cNvPicPr/>
          <p:nvPr/>
        </p:nvPicPr>
        <p:blipFill>
          <a:blip r:embed="rId10"/>
          <a:stretch/>
        </p:blipFill>
        <p:spPr>
          <a:xfrm>
            <a:off x="2041560" y="3809880"/>
            <a:ext cx="652320" cy="933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Photo on 12-6-12 at 9.35 AM.jpg"/>
          <p:cNvPicPr/>
          <p:nvPr/>
        </p:nvPicPr>
        <p:blipFill>
          <a:blip r:embed="rId11"/>
          <a:stretch/>
        </p:blipFill>
        <p:spPr>
          <a:xfrm>
            <a:off x="2041560" y="510228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Photo on 12-6-12 at 9.35 AM.jpg"/>
          <p:cNvPicPr/>
          <p:nvPr/>
        </p:nvPicPr>
        <p:blipFill>
          <a:blip r:embed="rId12"/>
          <a:stretch/>
        </p:blipFill>
        <p:spPr>
          <a:xfrm>
            <a:off x="669960" y="4572000"/>
            <a:ext cx="652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2:30Z</dcterms:modified>
  <cp:revision>112</cp:revision>
  <dc:subject/>
  <dc:title>Profile</dc:title>
</cp:coreProperties>
</file>